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490-C6BD-4316-89B8-264D8A80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70A-E328-4AA8-A1F1-587747C6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3C1-0D3A-440B-AD71-86A288ED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76C-C152-41B0-A418-D827904C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3E4-41FE-422D-9EDD-E0BEF71D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E26-FF55-45D2-8A26-17C4F72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7E3-2C7A-4E1D-B53A-95DCB0A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962-5A20-4BC4-90A3-52B755E3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108-71F1-43DD-AF33-E32D51D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729-4012-4FD2-8BFF-9E86DDD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534-51E3-4563-8120-1582F6E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737-213D-478D-8453-1F5FFF66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AC8-BF51-44DE-B2C2-CB18BB0852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iel.bueche@kssg.ch" TargetMode="External"/><Relationship Id="rId2" Type="http://schemas.openxmlformats.org/officeDocument/2006/relationships/hyperlink" Target="mailto:daniel.bueche@kssg.ch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Obstip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niel.bueche@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kssg.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asiskurs Palliative Care O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edikamentöse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tersche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imulant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sacodyl, Na- Picosulphat, S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ken nur im Colon (Cave Kol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imulieren den Plexus myenteri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imulieren die Sek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 Wahl bei Opioid-Obst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edikamentöse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tersche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lk 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ken bei Obstipation und Diarrh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ache Laxan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üssen mit viel Flüssigkeit eingenomm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den in der Palliative Care selten gebra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edikamentöse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ktale Laxant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bt es stimulierend, osmotisch, Gleitmittel,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ve: Phosphate können zur Gangän (Rektum) 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r sinnvoll wenn die Ampulle voll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fristige Unterstützung der oralen Laxan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etzen die oralen Laxantien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c- Zahl be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dikatio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ontrollierte Kontinenz bei spinaler Kompression oder Cauda e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eziell: spinale Kompression (anocolischer Reflex intakt, Sphincter schlaff od. spastisch), Cauda equina (anocolischer Reflex defekt, Sphincter schl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anagement bei (Opioid-) Obst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imulierendes L.: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z.B. Laxob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sätzlich Weichmache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z.B. Im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att Importal salinischer Weichmacher: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z.B.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Transipeg, Movicol, Magnesium San 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sätzlich rektale Massnahme: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Freka-Clyss oder Microklist, hoher Einlauf, manuelle Aus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ffin, Gastrographin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Generell keine obere Limite der Dosis, diese ist durch die Toleranz des Pat gegeb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anagement: spezi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uda equina: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ano-colischer Reflex ist defekt, Sphincter schlaff, rektale Stimulation aktiviert Colon nic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pinale Kompression: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ano-colischer Reflex ist intakt, Sphincter schlaff oder spastisch, rektale Stimulation führt zu Colon-Kontrak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i Cauda Equina und spinaler Kompression: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 regelmässige orale Laxantien und alle 2 Tage rektale Mass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anagment: Merke d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i Patienten mit Niereninsuffizien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Microklist nur nach spezieller Verord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kein Freka-Clyss (wegen Phosph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hoher Einlauf mit Wasser und Kamill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i Peritonealcarcinose/neurogener Darmentleerungsstör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Stimulanzien allenfalls in Kombination mit Metoclop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Laxantien: Weichma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280" y="762120"/>
          <a:ext cx="8920440" cy="6097320"/>
        </p:xfrm>
        <a:graphic>
          <a:graphicData uri="http://schemas.openxmlformats.org/drawingml/2006/table">
            <a:tbl>
              <a:tblPr/>
              <a:tblGrid>
                <a:gridCol w="2084400"/>
                <a:gridCol w="1847880"/>
                <a:gridCol w="1525680"/>
                <a:gridCol w="1687680"/>
                <a:gridCol w="1774800"/>
              </a:tblGrid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ks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k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eintri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tul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tit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bitol+F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phalac, Impor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2 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ähungen, teilweise Re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rogo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p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dtran, Klean-Prep, Colol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 (3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 (13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l (60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3 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3 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tung bei nephrolog. Patienten (max 1 Sach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-hydrox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-sulf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-sulf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-Dihyd-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San Pellegr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tersal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uber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ph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 g;1/4 - 1/2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2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6 - 12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f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3 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timulierende Laxant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2920" y="1143000"/>
          <a:ext cx="8858160" cy="5218200"/>
        </p:xfrm>
        <a:graphic>
          <a:graphicData uri="http://schemas.openxmlformats.org/drawingml/2006/table">
            <a:tbl>
              <a:tblPr/>
              <a:tblGrid>
                <a:gridCol w="1871640"/>
                <a:gridCol w="1700280"/>
                <a:gridCol w="1714320"/>
                <a:gridCol w="1500120"/>
                <a:gridCol w="207180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ks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k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 m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eintri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-Pico Sulp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xob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ttalax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Tro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- 12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tung: NI nur 5-10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na-Prä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Pr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-1 F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- 8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es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acody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lcol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x 5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- 12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 à 10, Drg à 5 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zinusö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xop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zinus 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2 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 St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 Aspirat. Lipidpneu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Rektale Laxant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1214280"/>
          <a:ext cx="8786880" cy="4970520"/>
        </p:xfrm>
        <a:graphic>
          <a:graphicData uri="http://schemas.openxmlformats.org/drawingml/2006/table">
            <a:tbl>
              <a:tblPr/>
              <a:tblGrid>
                <a:gridCol w="1722600"/>
                <a:gridCol w="1973160"/>
                <a:gridCol w="1785960"/>
                <a:gridCol w="1519200"/>
                <a:gridCol w="1785960"/>
              </a:tblGrid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kprinz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ks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ka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eintri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hn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-hydro-gen-carb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icarb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u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- 6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tisch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ini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bit, Naci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k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list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- 6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-hy-ph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ka-Cly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list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- 6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ier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acody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lcolax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upp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- 6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eitmit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ycer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b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u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- 6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her Einlau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ltener/unregelmässiger harter Stuhl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raining mind 25% der Z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arter Stuhlgang mind 25% der Z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komplete Entleerung mind 25% der Z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 oder weniger Stuhlentleerungen pro Wo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Rom-Kriterie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erve-Lax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ioidanatgon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loxegol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aler, peripherwirksamer u-Rezeptor-Antag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rksamkeit 40 – knapp 50% bei Patienten, die auf Laxativa nicht ansprachen (Placebo 3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naltrexon (Relis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dikationen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ndlung der Opiatinduzierten Obstipation bei Patienten in der Palliativsituation, bei denen übliche laxative Behandlungen ungenügend wir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 – 12 mg sc, als Bedarfmedikation max. alle 48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ue Lax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iproston (Amiti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C2-Chloridkanal-Aktiv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&gt;Sekretion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&gt; Wiederherstellung defekter Tight J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ikation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.a. für die Behandlung von Opiat- induzierter Obstipation beim Nicht-Tumorpatient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ronische Obst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sis: 2 x 24u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er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seudodiarrhoe bei Obstipation/Stuhlimpaktation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bstipation kann bei deliranten Patienten zu Unruhe/Agitation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bstipation und Delir kann zu Retentionblase fü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axativa besser als eine grosse Menge als verteilt verschrei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ch ohne Ernährung wird Stuhl gebild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Zusatz: nicht für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ulk forming Lax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leie, Methyl-Zellulose, Isphagul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kungseintritt nach 2 - 4 T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ku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mehrt Stuhl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asbildung durch bakterielle Zerse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olgeprobl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latule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hmer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orex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ausea, Erbre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doxe Diarrh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lasenentleerungsstö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erwirrung/Del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räval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ehr als 50% der Hospiz-Patienten sind obstipiert trotz Laxant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äufiger Grund für Beschwerden bei Palliativ-Pati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d unterdiagnostiziert, unterschät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euronale Steuerung der  Stuhlentle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nwillkürliche 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ympath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m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arasympath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immulie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gus + splan Plex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lexus myenter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llkürliche 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ypoglos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rvi pud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rsachen der Obstipation in der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bstruk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(Peritonealcarcinose, Aszites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rona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(spinale Kompression, retroperitoneale Infiltration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Hypercalcämie, Hypokaliämie, Hypothyreo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üssigkeitszufu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mer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wegu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(Inaktivitä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dikament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Opioide, Anticholinergica, Antikonsvulsiva, Antacida, Diuretika, Eisen, Vincristin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bklä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nam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Palpation, Auskultation, Rektaluntersuch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önt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amagement der Obst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ichtmedikamentö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rsache behandeln (Elektrolyte korrigieren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ktiv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üss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gebung (Privatsphäre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llenfalls Ernä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llenfalls rektale Massnahmen (falls Schmerzen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edikamentöse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tersche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chmac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smotische wirksame Laxatien: künstliche Zucker (Lactulose..), Salze (Macrogolum, Mg-hydroxid..) v.a. im Colon wirksam: Lactulose im proximalen Colon, Salze im ganzen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tmittel: Para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t in den Stuhl und macht den Stuhl gleitfäh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05:50:13Z</dcterms:created>
  <dc:creator>Elisabeth Büche</dc:creator>
  <dc:description/>
  <dc:language>en-US</dc:language>
  <cp:lastModifiedBy>Daniel</cp:lastModifiedBy>
  <dcterms:modified xsi:type="dcterms:W3CDTF">2015-08-24T20:59:04Z</dcterms:modified>
  <cp:revision>40</cp:revision>
  <dc:subject/>
  <dc:title>Obstipation</dc:title>
</cp:coreProperties>
</file>